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73EB-C384-4D51-9144-8D717D4E7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C7BB-AEDF-4E47-822E-EBAAA0A5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D3FB-979C-43BB-9BD7-94FBC5F93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7BD0-C36E-49CC-BF08-BA9C234A8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0FF8-5A27-46C0-9849-B32AC5C3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46F6-4B29-47B0-8214-DB4A09ED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A3A1-CA54-4862-AFFF-A2D6B41A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0FA1-1E92-4E7F-B062-99A77F18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BF3A-C8A4-49C3-9996-8121DC34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C222-8B71-4210-B46D-C02EC6C4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3FE7-BD23-45AD-8BDE-060A0AC9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C142-9132-49A0-B3D4-55690F43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3ED3-E422-4B23-93D5-D83CFFF336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2zKDFjAHkes" TargetMode="External"/><Relationship Id="rId2" Type="http://schemas.openxmlformats.org/officeDocument/2006/relationships/hyperlink" Target="http://www.youtube.com/watch?v=2zKDFjAHkes" TargetMode="External"/><Relationship Id="rId3" Type="http://schemas.openxmlformats.org/officeDocument/2006/relationships/hyperlink" Target="http://www.youtube.com/watch?v=2zKDFjAHkes" TargetMode="External"/><Relationship Id="rId4" Type="http://schemas.openxmlformats.org/officeDocument/2006/relationships/hyperlink" Target="http://www.eoearth.org/image/Hunters_with_a_net_rapped_on_a_stick_and_a_spear.jpg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Endangered%20species%20puzz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 rot="1784400">
            <a:off x="-431640" y="2363040"/>
            <a:ext cx="91440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9900"/>
                </a:solidFill>
                <a:latin typeface="Kristen ITC"/>
              </a:rPr>
              <a:t>Endangered </a:t>
            </a:r>
            <a:r>
              <a:rPr b="1" lang="en-US" sz="7400" spc="-1" strike="noStrike">
                <a:solidFill>
                  <a:srgbClr val="ff9900"/>
                </a:solidFill>
                <a:latin typeface="Kristen ITC"/>
              </a:rPr>
              <a:t>Species</a:t>
            </a:r>
            <a:endParaRPr b="0" lang="en-US" sz="7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105520" y="0"/>
            <a:ext cx="358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By:</a:t>
            </a:r>
            <a:br>
              <a:rPr sz="3200"/>
            </a:b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Lauren Salvadeo</a:t>
            </a:r>
            <a:br>
              <a:rPr sz="3200"/>
            </a:b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Krissi Ko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CTIV Handwriting Print"/>
              </a:rPr>
              <a:t>What are endangered species?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Kristen ITC"/>
              </a:rPr>
              <a:t>They are species with a population that decreased over a period of time to a very small numb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Kristen ITC"/>
              </a:rPr>
              <a:t>	</a:t>
            </a:r>
            <a:r>
              <a:rPr b="0" lang="en-US" sz="2800" spc="-1" strike="noStrike">
                <a:solidFill>
                  <a:srgbClr val="3366ff"/>
                </a:solidFill>
                <a:latin typeface="Kristen ITC"/>
              </a:rPr>
              <a:t>	</a:t>
            </a:r>
            <a:r>
              <a:rPr b="0" lang="en-US" sz="2800" spc="-1" strike="noStrike">
                <a:solidFill>
                  <a:srgbClr val="3366ff"/>
                </a:solidFill>
                <a:latin typeface="Kristen ITC"/>
              </a:rPr>
              <a:t>-They are at risk for extin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7" descr="worlmap"/>
          <p:cNvPicPr/>
          <p:nvPr/>
        </p:nvPicPr>
        <p:blipFill>
          <a:blip r:embed="rId1"/>
          <a:stretch/>
        </p:blipFill>
        <p:spPr>
          <a:xfrm>
            <a:off x="1447920" y="3429000"/>
            <a:ext cx="571500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bfff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What causes endangerment?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33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33"/>
                </a:solidFill>
                <a:latin typeface="Kristen ITC"/>
              </a:rPr>
              <a:t>Endangerment is a very large issue today and when a species becomes endangered, it has a lot to do with the animal’s habitat and its environment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33"/>
                </a:solidFill>
                <a:latin typeface="Kristen ITC"/>
              </a:rPr>
              <a:t>	</a:t>
            </a:r>
            <a:r>
              <a:rPr b="1" lang="en-US" sz="2400" spc="-1" strike="noStrike">
                <a:solidFill>
                  <a:srgbClr val="ffff33"/>
                </a:solidFill>
                <a:latin typeface="Kristen ITC"/>
              </a:rPr>
              <a:t>Habitat Destr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990720" y="3124080"/>
            <a:ext cx="784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143000" y="3200400"/>
            <a:ext cx="739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609480" y="2666880"/>
            <a:ext cx="79250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33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33"/>
                </a:solidFill>
                <a:latin typeface="Kristen ITC"/>
              </a:rPr>
              <a:t>When an animal’s habitat changes at a fast pace,                        it does not have enough time to adjust.</a:t>
            </a:r>
            <a:br>
              <a:rPr sz="2400"/>
            </a:br>
            <a:r>
              <a:rPr b="1" lang="en-US" sz="2400" spc="-1" strike="noStrike">
                <a:solidFill>
                  <a:srgbClr val="ffff33"/>
                </a:solidFill>
                <a:latin typeface="Kristen ITC"/>
              </a:rPr>
              <a:t>	</a:t>
            </a:r>
            <a:r>
              <a:rPr b="1" lang="en-US" sz="2400" spc="-1" strike="noStrike">
                <a:solidFill>
                  <a:srgbClr val="ffff33"/>
                </a:solidFill>
                <a:latin typeface="Kristen ITC"/>
              </a:rPr>
              <a:t>habitat loss- primary ca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33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33"/>
                </a:solidFill>
                <a:latin typeface="Kristen ITC"/>
              </a:rPr>
              <a:t>Humans play a big role </a:t>
            </a:r>
            <a:br>
              <a:rPr sz="2400"/>
            </a:br>
            <a:r>
              <a:rPr b="1" lang="en-US" sz="2400" spc="-1" strike="noStrike">
                <a:solidFill>
                  <a:srgbClr val="ffff33"/>
                </a:solidFill>
                <a:latin typeface="Kristen ITC"/>
              </a:rPr>
              <a:t> in habitat destruction.</a:t>
            </a:r>
            <a:br>
              <a:rPr sz="2400"/>
            </a:br>
            <a:r>
              <a:rPr b="1" lang="en-US" sz="2400" spc="-1" strike="noStrike">
                <a:solidFill>
                  <a:srgbClr val="ffff33"/>
                </a:solidFill>
                <a:latin typeface="Kristen ITC"/>
              </a:rPr>
              <a:t>   ex) pollution in waters </a:t>
            </a:r>
            <a:br>
              <a:rPr sz="2400"/>
            </a:br>
            <a:r>
              <a:rPr b="1" lang="en-US" sz="2400" spc="-1" strike="noStrike">
                <a:solidFill>
                  <a:srgbClr val="ffff33"/>
                </a:solidFill>
                <a:latin typeface="Kristen ITC"/>
              </a:rPr>
              <a:t>        causes fish to d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9" descr="chfa_04_img0945"/>
          <p:cNvPicPr/>
          <p:nvPr/>
        </p:nvPicPr>
        <p:blipFill>
          <a:blip r:embed="rId1"/>
          <a:stretch/>
        </p:blipFill>
        <p:spPr>
          <a:xfrm>
            <a:off x="4419720" y="4038480"/>
            <a:ext cx="450504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Causes Continued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Kristen ITC"/>
              </a:rPr>
              <a:t>Introduction of Invasive Spec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Kristen ITC"/>
              </a:rPr>
              <a:t>Native species grew up in a given area and adapted to the environment and the other species living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Kristen ITC"/>
              </a:rPr>
              <a:t>Invasive species are introduced to the environment either by accident or intentionally by humans and this may or may not cause a probl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Kristen ITC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Kristen ITC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Kristen ITC"/>
              </a:rPr>
              <a:t>- They could prey on the native animals and out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Kristen ITC"/>
              </a:rPr>
              <a:t>         compete them for food and cause the natives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Kristen ITC"/>
              </a:rPr>
              <a:t>         to become endangered or extin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Kristen ITC"/>
              </a:rPr>
              <a:t>Overexploi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Kristen ITC"/>
              </a:rPr>
              <a:t>Overexploitation is the rate at which a certain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Kristen ITC"/>
              </a:rPr>
              <a:t>species is used which could lead to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Kristen ITC"/>
              </a:rPr>
              <a:t>endangerment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Kristen ITC"/>
              </a:rPr>
              <a:t>ex) wha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Kristen ITC"/>
              </a:rPr>
              <a:t>More factors that could cause endangerme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Kristen ITC"/>
              </a:rPr>
              <a:t>Disease, limited distribution, and pol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http://www.met.gov.na/programmes/rhino/face.jpg"/>
          <p:cNvPicPr/>
          <p:nvPr/>
        </p:nvPicPr>
        <p:blipFill>
          <a:blip r:embed="rId2"/>
          <a:stretch/>
        </p:blipFill>
        <p:spPr>
          <a:xfrm>
            <a:off x="6324480" y="3733920"/>
            <a:ext cx="239076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ACTIV Handwriting Print"/>
              </a:rPr>
              <a:t>Endangered Specie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ACTIV Handwriting 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CTIV Handwriting Print"/>
              </a:rPr>
              <a:t>Mountain Goril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ACTIV Handwriting 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CTIV Handwriting Print"/>
              </a:rPr>
              <a:t>Black Rhi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ACTIV Handwriting 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CTIV Handwriting Print"/>
              </a:rPr>
              <a:t>Giant Pand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ACTIV Handwriting 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CTIV Handwriting Print"/>
              </a:rPr>
              <a:t>Polar B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ACTIV Handwriting 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CTIV Handwriting Print"/>
              </a:rPr>
              <a:t>Marine Turt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ACTIV Handwriting 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CTIV Handwriting Print"/>
              </a:rPr>
              <a:t>Eleph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ACTIV Handwriting 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CTIV Handwriting Print"/>
              </a:rPr>
              <a:t>Black Spider Mon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ACTIV Handwriting 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CTIV Handwriting Print"/>
              </a:rPr>
              <a:t>Brown Kiw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panda"/>
          <p:cNvPicPr/>
          <p:nvPr/>
        </p:nvPicPr>
        <p:blipFill>
          <a:blip r:embed="rId2"/>
          <a:stretch/>
        </p:blipFill>
        <p:spPr>
          <a:xfrm>
            <a:off x="5410080" y="91440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african-elephant-01301164b"/>
          <p:cNvPicPr/>
          <p:nvPr/>
        </p:nvPicPr>
        <p:blipFill>
          <a:blip r:embed="rId3"/>
          <a:stretch/>
        </p:blipFill>
        <p:spPr>
          <a:xfrm>
            <a:off x="4572000" y="3809880"/>
            <a:ext cx="4419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MountainGorillaYawning-MikeCrowther"/>
          <p:cNvPicPr/>
          <p:nvPr/>
        </p:nvPicPr>
        <p:blipFill>
          <a:blip r:embed="rId1"/>
          <a:stretch/>
        </p:blipFill>
        <p:spPr>
          <a:xfrm>
            <a:off x="0" y="0"/>
            <a:ext cx="2884320" cy="3657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polar_bears-Mom_n_Baby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2906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jfseaturtlepair"/>
          <p:cNvPicPr/>
          <p:nvPr/>
        </p:nvPicPr>
        <p:blipFill>
          <a:blip r:embed="rId3"/>
          <a:stretch/>
        </p:blipFill>
        <p:spPr>
          <a:xfrm>
            <a:off x="0" y="3581280"/>
            <a:ext cx="3809880" cy="327672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5"/>
          <p:cNvSpPr/>
          <p:nvPr/>
        </p:nvSpPr>
        <p:spPr>
          <a:xfrm>
            <a:off x="2386080" y="514440"/>
            <a:ext cx="4371840" cy="58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2386080" y="514440"/>
            <a:ext cx="4371840" cy="58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2386080" y="514440"/>
            <a:ext cx="4371840" cy="58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8" descr="Kiwi2"/>
          <p:cNvPicPr/>
          <p:nvPr/>
        </p:nvPicPr>
        <p:blipFill>
          <a:blip r:embed="rId4"/>
          <a:stretch/>
        </p:blipFill>
        <p:spPr>
          <a:xfrm>
            <a:off x="2895480" y="0"/>
            <a:ext cx="3124440" cy="4038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http://www.amersol.edu.pe/ms/7th/7block/jungle_research/new_cards/20/spidermonkeybaby.jpg"/>
          <p:cNvPicPr/>
          <p:nvPr/>
        </p:nvPicPr>
        <p:blipFill>
          <a:blip r:embed="rId5"/>
          <a:stretch/>
        </p:blipFill>
        <p:spPr>
          <a:xfrm>
            <a:off x="3429000" y="4038480"/>
            <a:ext cx="3505320" cy="2819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http://www.arksark.org/blog/wp-content/uploads/2007/11/blackrhino.jpg"/>
          <p:cNvPicPr/>
          <p:nvPr/>
        </p:nvPicPr>
        <p:blipFill>
          <a:blip r:embed="rId6"/>
          <a:stretch/>
        </p:blipFill>
        <p:spPr>
          <a:xfrm>
            <a:off x="5978520" y="2895480"/>
            <a:ext cx="3165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28600" y="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363"/>
                </a:solidFill>
                <a:latin typeface="Univers"/>
              </a:rPr>
              <a:t>Poach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152280" y="609480"/>
            <a:ext cx="8991720" cy="61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Poaching is when humans illegally kill or capture animals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Ex) capturing an animal without a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       licen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In a country where hunting is an important part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 of the economy and culture, poaching may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 occur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        - Some countries use animal hide, ivory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          horn, teeth, and bones to make product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          such as jewel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Some methods of poaching in other countries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     snare wires- tied to trees to capture certain animal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     trap nets- animals are chased towards the net and get caugh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     pitfalls- usually used to capture larger anim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Poaching could spread diseas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ex) Anthrax was spread in Uganda due to people feeding on animal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      from Queen Elizabeth National Park.</a:t>
            </a:r>
            <a:br>
              <a:rPr sz="2000"/>
            </a:br>
            <a:r>
              <a:rPr b="0" lang="en-US" sz="2000" spc="-1" strike="noStrike" u="sng">
                <a:solidFill>
                  <a:srgbClr val="ccb400"/>
                </a:solidFill>
                <a:uFillTx/>
                <a:latin typeface="Kristen ITC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ccb400"/>
                </a:solidFill>
                <a:uFillTx/>
                <a:latin typeface="Kristen ITC"/>
                <a:hlinkClick r:id="rId2"/>
              </a:rPr>
              <a:t>www.youtube.com/watch?v</a:t>
            </a:r>
            <a:r>
              <a:rPr b="0" lang="en-US" sz="2000" spc="-1" strike="noStrike" u="sng">
                <a:solidFill>
                  <a:srgbClr val="ccb400"/>
                </a:solidFill>
                <a:uFillTx/>
                <a:latin typeface="Kristen ITC"/>
                <a:hlinkClick r:id="rId3"/>
              </a:rPr>
              <a:t>=2zKDFjAHk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6" descr="Figure 3. Hunters with a net wrapped on a stick and a spear on their way to hunting in Masindi District, Western Uganda. (Source: Photograph by Magelah Peter G. © 2007)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324480" y="990720"/>
            <a:ext cx="26449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533520" y="15228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What is Being Don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152280" y="990720"/>
            <a:ext cx="87631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Kristen ITC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Kristen ITC"/>
              </a:rPr>
              <a:t>Conserving a habitat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Kristen ITC"/>
              </a:rPr>
              <a:t>      Places such as national parks or nature reserves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Kristen ITC"/>
              </a:rPr>
              <a:t>      No human inter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Kristen ITC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Kristen ITC"/>
              </a:rPr>
              <a:t>Reduce + Reuse + Recycle = Better habitat for animals and less 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Kristen ITC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Kristen ITC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Kristen ITC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Kristen ITC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Kristen ITC"/>
              </a:rPr>
              <a:t>endanger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Kristen ITC"/>
              </a:rPr>
              <a:t>Organizations have been set up through out the world for this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Kristen ITC"/>
              </a:rPr>
              <a:t> cau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Kristen ITC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Kristen ITC"/>
              </a:rPr>
              <a:t>Laws have been adopted to regulate import, export and all sales of any endangered spec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Kristen ITC"/>
              </a:rPr>
              <a:t>Other laws are to protect species from various forms of inhumane treatment and poach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Kristen ITC"/>
              </a:rPr>
              <a:t>How to stop Poach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Kristen ITC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Kristen ITC"/>
              </a:rPr>
              <a:t>Report any suspicion of illegal animal capturing to a FWP’s (Fish,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Kristen ITC"/>
              </a:rPr>
              <a:t>  Wildlife &amp; Parks) TIP-MONT program and they could help stop the 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Kristen ITC"/>
              </a:rPr>
              <a:t>  poachers. 1-800-TIP-MO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2" descr="http://www.montanagamewardens.org/images/conference_logo.gif"/>
          <p:cNvPicPr/>
          <p:nvPr/>
        </p:nvPicPr>
        <p:blipFill>
          <a:blip r:embed="rId1"/>
          <a:stretch/>
        </p:blipFill>
        <p:spPr>
          <a:xfrm>
            <a:off x="7391520" y="380880"/>
            <a:ext cx="1503360" cy="15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600200" y="22860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28600" y="1371600"/>
            <a:ext cx="86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457200" y="1219320"/>
            <a:ext cx="838188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015"/>
                </a:solidFill>
                <a:latin typeface="Arial"/>
              </a:rPr>
              <a:t>Hagener, Jeff. "Together, We Can Stop Poachers." </a:t>
            </a:r>
            <a:r>
              <a:rPr b="0" lang="en-US" sz="1800" spc="-1" strike="noStrike" u="sng">
                <a:solidFill>
                  <a:srgbClr val="2d2015"/>
                </a:solidFill>
                <a:uFillTx/>
                <a:latin typeface="Arial"/>
              </a:rPr>
              <a:t>Montana Fish, Wildlife and</a:t>
            </a:r>
            <a:br>
              <a:rPr sz="1800"/>
            </a:br>
            <a:r>
              <a:rPr b="0" lang="en-US" sz="1800" spc="-1" strike="noStrike">
                <a:solidFill>
                  <a:srgbClr val="2d2015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2d2015"/>
                </a:solidFill>
                <a:uFillTx/>
                <a:latin typeface="Arial"/>
              </a:rPr>
              <a:t>Parks</a:t>
            </a:r>
            <a:r>
              <a:rPr b="0" lang="en-US" sz="1800" spc="-1" strike="noStrike">
                <a:solidFill>
                  <a:srgbClr val="2d2015"/>
                </a:solidFill>
                <a:latin typeface="Arial"/>
              </a:rPr>
              <a:t>. 2 Mar. 2009 &lt;http://fwp.mt.gov&gt;. Path: http://fwp.mt.gov/</a:t>
            </a:r>
            <a:br>
              <a:rPr sz="1800"/>
            </a:br>
            <a:r>
              <a:rPr b="0" lang="en-US" sz="1800" spc="-1" strike="noStrike">
                <a:solidFill>
                  <a:srgbClr val="2d201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d2015"/>
                </a:solidFill>
                <a:latin typeface="Arial"/>
              </a:rPr>
              <a:t>mtoutdoors/html/director/SO06.htm. </a:t>
            </a:r>
            <a:br>
              <a:rPr sz="1800"/>
            </a:br>
            <a:r>
              <a:rPr b="0" lang="en-US" sz="1800" spc="-1" strike="noStrike">
                <a:solidFill>
                  <a:srgbClr val="523e26"/>
                </a:solidFill>
                <a:latin typeface="Arial"/>
              </a:rPr>
              <a:t>"Horrific Methods Used by Elephant Poachers- BBC Wildlife." </a:t>
            </a:r>
            <a:r>
              <a:rPr b="0" lang="en-US" sz="1800" spc="-1" strike="noStrike" u="sng">
                <a:solidFill>
                  <a:srgbClr val="523e26"/>
                </a:solidFill>
                <a:uFillTx/>
                <a:latin typeface="Arial"/>
              </a:rPr>
              <a:t>YouTube</a:t>
            </a:r>
            <a:r>
              <a:rPr b="0" lang="en-US" sz="1800" spc="-1" strike="noStrike">
                <a:solidFill>
                  <a:srgbClr val="523e26"/>
                </a:solidFill>
                <a:latin typeface="Arial"/>
              </a:rPr>
              <a:t>. 19 May</a:t>
            </a:r>
            <a:br>
              <a:rPr sz="1800"/>
            </a:br>
            <a:r>
              <a:rPr b="0" lang="en-US" sz="1800" spc="-1" strike="noStrike">
                <a:solidFill>
                  <a:srgbClr val="523e2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23e26"/>
                </a:solidFill>
                <a:latin typeface="Arial"/>
              </a:rPr>
              <a:t>2008. 1 Mar. 2009 &lt;http://www.youtube.com&gt;. Path:</a:t>
            </a:r>
            <a:br>
              <a:rPr sz="1800"/>
            </a:br>
            <a:r>
              <a:rPr b="0" lang="en-US" sz="1800" spc="-1" strike="noStrike">
                <a:solidFill>
                  <a:srgbClr val="523e2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23e26"/>
                </a:solidFill>
                <a:latin typeface="Arial"/>
              </a:rPr>
              <a:t>http://www.youtube.com/watch?v=2zKDFjAHk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23e26"/>
                </a:solidFill>
                <a:latin typeface="Arial"/>
              </a:rPr>
              <a:t>Kurpis, Lauren. </a:t>
            </a:r>
            <a:r>
              <a:rPr b="0" lang="en-US" sz="1800" spc="-1" strike="noStrike" u="sng">
                <a:solidFill>
                  <a:srgbClr val="523e26"/>
                </a:solidFill>
                <a:uFillTx/>
                <a:latin typeface="Arial"/>
              </a:rPr>
              <a:t>Endangered Specie The Rarest Info Around</a:t>
            </a:r>
            <a:r>
              <a:rPr b="0" lang="en-US" sz="1800" spc="-1" strike="noStrike">
                <a:solidFill>
                  <a:srgbClr val="523e26"/>
                </a:solidFill>
                <a:latin typeface="Arial"/>
              </a:rPr>
              <a:t>. 1 Mar. 2009</a:t>
            </a:r>
            <a:br>
              <a:rPr sz="1800"/>
            </a:br>
            <a:r>
              <a:rPr b="0" lang="en-US" sz="1800" spc="-1" strike="noStrike">
                <a:solidFill>
                  <a:srgbClr val="523e2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23e26"/>
                </a:solidFill>
                <a:latin typeface="Arial"/>
              </a:rPr>
              <a:t>&lt;http://www.endangeredspecie.com/&gt;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23e26"/>
                </a:solidFill>
                <a:latin typeface="Arial"/>
              </a:rPr>
              <a:t>Magelah, Peter. "Poaching." </a:t>
            </a:r>
            <a:r>
              <a:rPr b="0" lang="en-US" sz="1800" spc="-1" strike="noStrike" u="sng">
                <a:solidFill>
                  <a:srgbClr val="523e26"/>
                </a:solidFill>
                <a:uFillTx/>
                <a:latin typeface="Arial"/>
              </a:rPr>
              <a:t>The Encyclopedia or Earth</a:t>
            </a:r>
            <a:r>
              <a:rPr b="0" lang="en-US" sz="1800" spc="-1" strike="noStrike">
                <a:solidFill>
                  <a:srgbClr val="523e26"/>
                </a:solidFill>
                <a:latin typeface="Arial"/>
              </a:rPr>
              <a:t>. 5 Oct. 2007. 1 Mar.</a:t>
            </a:r>
            <a:br>
              <a:rPr sz="1800"/>
            </a:br>
            <a:r>
              <a:rPr b="0" lang="en-US" sz="1800" spc="-1" strike="noStrike">
                <a:solidFill>
                  <a:srgbClr val="523e2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23e26"/>
                </a:solidFill>
                <a:latin typeface="Arial"/>
              </a:rPr>
              <a:t>2009 &lt;http://www.eoearth.org/&gt;. Path: http://www.eoearth.org/article/</a:t>
            </a:r>
            <a:br>
              <a:rPr sz="1800"/>
            </a:br>
            <a:r>
              <a:rPr b="0" lang="en-US" sz="1800" spc="-1" strike="noStrike">
                <a:solidFill>
                  <a:srgbClr val="523e2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23e26"/>
                </a:solidFill>
                <a:latin typeface="Arial"/>
              </a:rPr>
              <a:t>Poaching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3:39:28Z</dcterms:created>
  <dc:creator>sasd</dc:creator>
  <dc:description/>
  <dc:language>en-US</dc:language>
  <cp:lastModifiedBy>sasd</cp:lastModifiedBy>
  <dcterms:modified xsi:type="dcterms:W3CDTF">2009-03-09T14:49:25Z</dcterms:modified>
  <cp:revision>21</cp:revision>
  <dc:subject/>
  <dc:title>Slide 1</dc:title>
</cp:coreProperties>
</file>